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CA19-DDE8-4C10-A074-1EFCB895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F52C-D084-4474-959A-90AB6E5D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665C-B5E7-437B-BAB4-4C9CE245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4BA-8AB7-4178-B441-C2192445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C4F1-1381-4D53-9F62-26685C87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F93A-C775-40F8-8436-8E4005FB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65BA-B535-4954-AB1E-736319F5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75D4-9C1A-448D-8546-EAE99F69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EE11-43C4-4514-919E-2C11E94D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EC29-9478-4E95-AFA8-30CCC445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7C10-80D1-4116-93CF-CE3550C1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DCB4-343F-4EE1-8BC7-D8B66117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F929-F8B8-48A9-AB3F-BD34B685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FFBF-A73D-46F0-83B8-2D998294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E9CA-A89B-44E9-B213-3F465C81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2B0D-08C6-4765-B9F5-5F94C851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1EEF-2245-40E3-9B50-E6C573AB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95FA-FC0C-4107-977B-CED90A08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E089-5DA6-42BA-B3F2-0CBCBE67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354B-EC16-4BD9-905F-6678117D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113F-32FA-4959-B8A3-4FEAFAC0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850F-6398-43EF-BF9C-732B7CAA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44F2-11BA-4E15-B5DE-97C11FC4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2E2C-2F47-4771-9730-B4AE10C8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86200" y="0"/>
            <a:ext cx="5257800" cy="685800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29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F9FC-B5F2-4C5C-BAE7-771968E936B4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6453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　中国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86200" y="0"/>
            <a:ext cx="5257800" cy="685800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291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2743200"/>
            <a:ext cx="9144000" cy="1504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52CA-C2C8-4871-AFE1-407774B5F0C3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6453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　中国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7:52Z</dcterms:modified>
  <cp:revision>42</cp:revision>
  <dc:subject/>
  <dc:title>幻灯片 1</dc:title>
</cp:coreProperties>
</file>